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31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29.png" ContentType="image/png"/>
  <Override PartName="/ppt/media/image14.wmf" ContentType="image/x-wmf"/>
  <Override PartName="/ppt/media/image39.png" ContentType="image/png"/>
  <Override PartName="/ppt/media/image34.png" ContentType="image/png"/>
  <Override PartName="/ppt/media/image3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37.png" ContentType="image/png"/>
  <Override PartName="/ppt/media/image48.wmf" ContentType="image/x-wmf"/>
  <Override PartName="/ppt/media/image50.wmf" ContentType="image/x-wmf"/>
  <Override PartName="/ppt/media/image41.png" ContentType="image/png"/>
  <Override PartName="/ppt/media/image9.wmf" ContentType="image/x-wmf"/>
  <Override PartName="/ppt/media/image13.wmf" ContentType="image/x-wmf"/>
  <Override PartName="/ppt/media/image52.png" ContentType="image/png"/>
  <Override PartName="/ppt/media/image5.png" ContentType="image/png"/>
  <Override PartName="/ppt/media/image35.png" ContentType="image/png"/>
  <Override PartName="/ppt/media/image49.wmf" ContentType="image/x-wmf"/>
  <Override PartName="/ppt/media/image12.wmf" ContentType="image/x-wmf"/>
  <Override PartName="/ppt/media/image7.wmf" ContentType="image/x-wmf"/>
  <Override PartName="/ppt/media/image51.wmf" ContentType="image/x-wmf"/>
  <Override PartName="/ppt/media/image11.png" ContentType="image/png"/>
  <Override PartName="/ppt/media/image47.wmf" ContentType="image/x-wmf"/>
  <Override PartName="/ppt/media/image10.wmf" ContentType="image/x-wmf"/>
  <Override PartName="/ppt/media/image40.png" ContentType="image/png"/>
  <Override PartName="/ppt/media/image4.jpeg" ContentType="image/jpeg"/>
  <Override PartName="/ppt/media/image8.wmf" ContentType="image/x-wmf"/>
  <Override PartName="/ppt/media/image6.png" ContentType="image/png"/>
  <Override PartName="/ppt/media/image3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7234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98640" y="685440"/>
            <a:ext cx="48607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7433-1E6D-4536-A163-282F74458D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9C1C-D831-4ED9-AD38-6A14CC73E4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84F8-6A7C-43D2-8DA5-01CD18253B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8BA-A3A0-41B4-AB3A-2E9761CE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0C30-35F3-4221-9922-3C84F39B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28B-71B9-4A43-B3CB-CA3082BE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122-6CF7-4B1C-B0B3-B5AE0320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96E6-BE48-4B90-916F-193A901F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EA74-A351-4976-88F7-DD6F087D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068F-3E3B-4D7C-862A-769A973C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D495-80D5-4922-BFB6-371AB6C4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E31A-B1E4-45B0-BAA4-1161E983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9725-A990-435E-AB40-730F29F9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E758-FD05-433F-892A-F22A96A3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42E1-DDFF-46C2-AFF3-49B1476E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E734-1448-4C1A-ACCB-F964BDDF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AA8C-ECED-4F39-A44A-7BD18139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39BF-D961-415A-A7FB-2374A675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F41C-9C42-4B8B-BA6D-B9EAF3EA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8023-4668-4039-A7A0-4AD721E4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BC34F-1144-4D5F-A8CF-15D8522C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7CF8F-7E98-4749-840B-BED0544C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FCB3E-7562-4753-9D7C-1048CCD3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4153B-472D-4BF3-B04A-70B1CC61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03E03-05BC-4785-B7F8-4871CC54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8CB-70F1-4DDC-AE83-6E3057DA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962EE-14C6-46E8-BC87-FAEFC0B7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FCEAC-6322-4851-A602-8B043AA4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9EC94-B6BE-4DDB-99CD-259C8D2C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87249-A9E4-4169-9D45-98B925C9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D60B3-FD30-4C4E-B963-3E4918B1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E0846-0977-4B5B-A635-02D2030B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44C55-EBBE-496B-A9EF-BE8E09E1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1425D-A409-4E04-99F5-F15C37BC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80F96-4E32-495C-866B-9054F1BC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8C291-29A0-4CB2-A324-B3C9300B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0FF-7B48-4FCE-A2B6-E43A590F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C8B15-1738-4755-92F1-805EED9E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5EAA9-A50A-4F8F-B63D-6C8B452F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02B93-5842-48F7-A772-B8C45A39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E6266-4BB0-4159-ADDA-298590BB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B9D9D-F644-4568-BFC9-9D6A81F2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2B7AE-9D80-4AFD-A922-C4B8A984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6F2C0-EB3D-490F-B7D2-6DCCBD34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7834D-5BCF-426D-AB61-24296BBB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C212E-EE02-4FB1-BB76-DD25257B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30ACA-2120-4446-8877-3BF0B2DA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C5B-3B93-40D0-9D8C-2C68769A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36901-2D62-4595-9C1D-0B273E14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564B4-1BC6-4FCC-B2E3-6F03EF0B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36FE0-ED08-461F-8FA7-AA285B76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0B59A-EE1A-474F-9B3C-74724D56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4266B-AF3C-4A4C-B7B5-718431BE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5AC1C-9DDD-4A89-975D-0B8776AD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6B368-CE84-42B3-A63B-3BCE68A1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954C0-D7D4-48EB-A70B-44FBF5FF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2A10F-F906-48AD-B9E3-BD798B67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E2AA5-A809-4B09-BD67-11FC94AA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B93-E627-4E86-A027-2A58F61D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72E2A-33F3-401B-A2F1-136B14F2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66D-3759-414F-98DA-F8DAF559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8A5-9304-413F-A160-3A4B3D24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B18D-9CC1-4E3E-A7ED-C41AA38C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1476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85640" y="65577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4668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8B9F-80BD-48BB-B2D5-C64EEB4CA07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828880" y="-6480"/>
            <a:ext cx="6900840" cy="6870960"/>
            <a:chOff x="2828880" y="-6480"/>
            <a:chExt cx="690084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828880" y="-6480"/>
              <a:ext cx="69008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835360" y="0"/>
              <a:ext cx="68864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83536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241680" y="6558120"/>
            <a:ext cx="21286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997000" y="6557760"/>
            <a:ext cx="311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7864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0687-8E07-454B-B2E4-F99A2777519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022720" y="6555960"/>
            <a:ext cx="21290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844280" y="6555960"/>
            <a:ext cx="3078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159320" y="655452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BD7D-74F0-4BED-9FF4-C227D8865E9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635040" y="1004400"/>
            <a:ext cx="459252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634680" y="998280"/>
            <a:ext cx="459252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1476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85640" y="65577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64668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FA4E-C011-429C-BB0D-D859FA66BA73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1152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85640" y="65559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49920" y="6552720"/>
            <a:ext cx="625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895E-E584-4A4C-90D0-78C8AF581B5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wmf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792520" y="353880"/>
            <a:ext cx="717372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52000" y="1325520"/>
            <a:ext cx="8209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600" spc="-1" strike="noStrike">
                <a:solidFill>
                  <a:srgbClr val="a50021"/>
                </a:solidFill>
                <a:latin typeface="Trebuchet MS"/>
              </a:rPr>
              <a:t>Определение 1.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2060"/>
                </a:solidFill>
                <a:latin typeface="Trebuchet MS"/>
              </a:rPr>
              <a:t>Рациональной дробью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называется дробь вида </a:t>
            </a: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rebuchet MS"/>
              </a:rPr>
              <a:t>                                         </a:t>
            </a:r>
            <a:r>
              <a:rPr b="1" lang="ru-RU" sz="2600" spc="-1" strike="noStrike">
                <a:solidFill>
                  <a:srgbClr val="002060"/>
                </a:solidFill>
                <a:latin typeface="Trebuchet MS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где                           - многочлен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1" i="1" lang="ru-RU" sz="2600" spc="-1" strike="noStrike">
                <a:solidFill>
                  <a:srgbClr val="a50021"/>
                </a:solidFill>
                <a:latin typeface="Trebuchet MS"/>
              </a:rPr>
              <a:t>Определение 2. </a:t>
            </a:r>
            <a:r>
              <a:rPr b="0" i="1" lang="ru-RU" sz="2600" spc="-1" strike="noStrike">
                <a:solidFill>
                  <a:srgbClr val="002060"/>
                </a:solidFill>
                <a:latin typeface="Trebuchet MS"/>
              </a:rPr>
              <a:t>Рациональная дробь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называется правильной, если степень многочлена        ниже степени многочлена           , в противном случае дробь называется неправильно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10"/>
              <p:cNvSpPr txBox="1"/>
              <p:nvPr/>
            </p:nvSpPr>
            <p:spPr>
              <a:xfrm>
                <a:off x="2838600" y="2139840"/>
                <a:ext cx="13744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7"/>
              <p:cNvSpPr txBox="1"/>
              <p:nvPr/>
            </p:nvSpPr>
            <p:spPr>
              <a:xfrm>
                <a:off x="1260360" y="3262320"/>
                <a:ext cx="2143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8"/>
              <p:cNvSpPr txBox="1"/>
              <p:nvPr/>
            </p:nvSpPr>
            <p:spPr>
              <a:xfrm>
                <a:off x="6661080" y="4487760"/>
                <a:ext cx="928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9"/>
              <p:cNvSpPr txBox="1"/>
              <p:nvPr/>
            </p:nvSpPr>
            <p:spPr>
              <a:xfrm>
                <a:off x="4068720" y="4919760"/>
                <a:ext cx="1009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-42840" y="-103320"/>
            <a:ext cx="876600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665280" y="480960"/>
            <a:ext cx="7729560" cy="4334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-360" y="714240"/>
            <a:ext cx="838980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42a"/>
                </a:solidFill>
                <a:latin typeface="Trebuchet MS"/>
              </a:rPr>
              <a:t>Во всех четырех случаях   </a:t>
            </a:r>
            <a:r>
              <a:rPr b="0" i="1" lang="ru-RU" sz="2800" spc="-1" strike="noStrike">
                <a:solidFill>
                  <a:srgbClr val="3b142a"/>
                </a:solidFill>
                <a:latin typeface="Trebuchet MS"/>
              </a:rPr>
              <a:t>А,</a:t>
            </a:r>
            <a:r>
              <a:rPr b="0" i="1" lang="en-US" sz="2800" spc="-1" strike="noStrike">
                <a:solidFill>
                  <a:srgbClr val="3b142a"/>
                </a:solidFill>
                <a:latin typeface="Trebuchet MS"/>
              </a:rPr>
              <a:t> B, p, q, a  </a:t>
            </a:r>
            <a:r>
              <a:rPr b="0" lang="en-US" sz="2800" spc="-1" strike="noStrike">
                <a:solidFill>
                  <a:srgbClr val="3b142a"/>
                </a:solidFill>
                <a:latin typeface="Trebuchet MS"/>
              </a:rPr>
              <a:t>-</a:t>
            </a:r>
            <a:r>
              <a:rPr b="0" lang="ru-RU" sz="2800" spc="-1" strike="noStrike">
                <a:solidFill>
                  <a:srgbClr val="3b142a"/>
                </a:solidFill>
                <a:latin typeface="Trebuchet MS"/>
              </a:rPr>
              <a:t>действительные числа.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10"/>
              <p:cNvSpPr txBox="1"/>
              <p:nvPr/>
            </p:nvSpPr>
            <p:spPr>
              <a:xfrm>
                <a:off x="612720" y="981000"/>
                <a:ext cx="14781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612720" y="1766880"/>
                <a:ext cx="779148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цело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больше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диницы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q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799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Теорема.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Всякая неправильная рациональная дробь представима в виде суммы многочлена (ее целой части) и правильной рациональной дроб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Замечание.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Такого представления можно достич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например, с помощью деления многочленов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на             «в столбик»,  прекращая процедуру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деления как только степень многочлен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сформировавшегося в остатке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станет меньш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степени многочлена             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Теорема.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Всякую правильную рациональную дроб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можно представить в виде суммы конечного числ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ростейших  рациональных дроб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1" name="Объект 4"/>
          <p:cNvGraphicFramePr/>
          <p:nvPr/>
        </p:nvGraphicFramePr>
        <p:xfrm>
          <a:off x="7381800" y="1916280"/>
          <a:ext cx="84636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1800" y="1916280"/>
                    <a:ext cx="8463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3" name="Объект 5"/>
              <p:cNvSpPr txBox="1"/>
              <p:nvPr/>
            </p:nvSpPr>
            <p:spPr>
              <a:xfrm>
                <a:off x="1189080" y="2421000"/>
                <a:ext cx="836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Объект 6"/>
              <p:cNvSpPr txBox="1"/>
              <p:nvPr/>
            </p:nvSpPr>
            <p:spPr>
              <a:xfrm>
                <a:off x="3808440" y="3789360"/>
                <a:ext cx="836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646200" y="255600"/>
            <a:ext cx="7748640" cy="7318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8065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c6c"/>
                </a:solidFill>
                <a:latin typeface="Trebuchet MS"/>
              </a:rPr>
              <a:t>                                             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57" name="Прямоугольник 5"/>
          <p:cNvSpPr/>
          <p:nvPr/>
        </p:nvSpPr>
        <p:spPr>
          <a:xfrm>
            <a:off x="252360" y="126828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ля разложения рацион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роби    надо сделать следующие алгебраические преобразования  и  вы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Если дана неправильная рациональная дробь, то выделить из нее целую часть,  т.е представить в ви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ногочлен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авильная рациональная дроб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10"/>
              <p:cNvSpPr txBox="1"/>
              <p:nvPr/>
            </p:nvSpPr>
            <p:spPr>
              <a:xfrm>
                <a:off x="2124000" y="1844640"/>
                <a:ext cx="1224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1116000" y="4508640"/>
                <a:ext cx="504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М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r>
                      <m:t xml:space="preserve">М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6"/>
              <p:cNvSpPr txBox="1"/>
              <p:nvPr/>
            </p:nvSpPr>
            <p:spPr>
              <a:xfrm>
                <a:off x="1217520" y="5589720"/>
                <a:ext cx="12668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0658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c6c"/>
                </a:solidFill>
                <a:latin typeface="Trebuchet MS"/>
              </a:rPr>
              <a:t>                                             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62" name="Прямоугольник 8"/>
          <p:cNvSpPr/>
          <p:nvPr/>
        </p:nvSpPr>
        <p:spPr>
          <a:xfrm>
            <a:off x="324000" y="527040"/>
            <a:ext cx="8208720" cy="67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7160" indent="-34272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зложить знаменатель дроби на линейные и квадратичные множ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авильную рациональную дробь разложить на простейшие др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 практике осуществить разложение правильной рациональной дроби    на сумму простейших рациональных дробей можно по следующей  сх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йти корни многочл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едставить его в виде разложения на множит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8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Объект 2"/>
              <p:cNvSpPr txBox="1"/>
              <p:nvPr/>
            </p:nvSpPr>
            <p:spPr>
              <a:xfrm>
                <a:off x="1620720" y="4292640"/>
                <a:ext cx="50403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Rectangle 7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Объект 4"/>
              <p:cNvSpPr txBox="1"/>
              <p:nvPr/>
            </p:nvSpPr>
            <p:spPr>
              <a:xfrm>
                <a:off x="684360" y="5877000"/>
                <a:ext cx="7753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45440" cy="62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исать разложение с неопределенными коэффициента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Объект 5"/>
              <p:cNvSpPr txBox="1"/>
              <p:nvPr/>
            </p:nvSpPr>
            <p:spPr>
              <a:xfrm>
                <a:off x="1332000" y="1341360"/>
                <a:ext cx="68133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Rectangle 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Объект 7"/>
              <p:cNvSpPr txBox="1"/>
              <p:nvPr/>
            </p:nvSpPr>
            <p:spPr>
              <a:xfrm>
                <a:off x="1332000" y="2133720"/>
                <a:ext cx="4365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Rectangle 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Объект 9"/>
              <p:cNvSpPr txBox="1"/>
              <p:nvPr/>
            </p:nvSpPr>
            <p:spPr>
              <a:xfrm>
                <a:off x="5653080" y="2133720"/>
                <a:ext cx="22287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8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Объект 11"/>
              <p:cNvSpPr txBox="1"/>
              <p:nvPr/>
            </p:nvSpPr>
            <p:spPr>
              <a:xfrm>
                <a:off x="1332000" y="2924280"/>
                <a:ext cx="18097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l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l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6" name="Прямоугольник 12"/>
          <p:cNvSpPr/>
          <p:nvPr/>
        </p:nvSpPr>
        <p:spPr>
          <a:xfrm>
            <a:off x="991440" y="3645000"/>
            <a:ext cx="48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4. Определить коэффици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Объект 14"/>
              <p:cNvSpPr txBox="1"/>
              <p:nvPr/>
            </p:nvSpPr>
            <p:spPr>
              <a:xfrm>
                <a:off x="1405080" y="4149720"/>
                <a:ext cx="29192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k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Rectangle 1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Объект 16"/>
              <p:cNvSpPr txBox="1"/>
              <p:nvPr/>
            </p:nvSpPr>
            <p:spPr>
              <a:xfrm>
                <a:off x="4284720" y="4149720"/>
                <a:ext cx="12175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Объект 18"/>
              <p:cNvSpPr txBox="1"/>
              <p:nvPr/>
            </p:nvSpPr>
            <p:spPr>
              <a:xfrm>
                <a:off x="6805440" y="4753080"/>
                <a:ext cx="2876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Rectangle 15"/>
          <p:cNvSpPr/>
          <p:nvPr/>
        </p:nvSpPr>
        <p:spPr>
          <a:xfrm>
            <a:off x="4934160" y="4773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7"/>
          <p:cNvSpPr/>
          <p:nvPr/>
        </p:nvSpPr>
        <p:spPr>
          <a:xfrm>
            <a:off x="1376280" y="4660560"/>
            <a:ext cx="67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уммарное число  которых равно     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Объект 21"/>
              <p:cNvSpPr txBox="1"/>
              <p:nvPr/>
            </p:nvSpPr>
            <p:spPr>
              <a:xfrm>
                <a:off x="152280" y="609480"/>
                <a:ext cx="1238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Rectangle 18"/>
          <p:cNvSpPr/>
          <p:nvPr/>
        </p:nvSpPr>
        <p:spPr>
          <a:xfrm>
            <a:off x="5086440" y="6296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480960" y="268200"/>
            <a:ext cx="7840800" cy="7192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85280" y="1125000"/>
            <a:ext cx="7975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lnSpc>
                <a:spcPct val="100000"/>
              </a:lnSpc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 р и м е р.  Определить, какие из указанных рациональных дробей являются правильными: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)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Объект 5"/>
              <p:cNvSpPr txBox="1"/>
              <p:nvPr/>
            </p:nvSpPr>
            <p:spPr>
              <a:xfrm>
                <a:off x="1620720" y="2205000"/>
                <a:ext cx="22478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Rectangle 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Объект 7"/>
              <p:cNvSpPr txBox="1"/>
              <p:nvPr/>
            </p:nvSpPr>
            <p:spPr>
              <a:xfrm>
                <a:off x="1620720" y="3141720"/>
                <a:ext cx="2221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Rectangle 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Объект 9"/>
              <p:cNvSpPr txBox="1"/>
              <p:nvPr/>
            </p:nvSpPr>
            <p:spPr>
              <a:xfrm>
                <a:off x="2052720" y="4076640"/>
                <a:ext cx="1693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84200" y="333000"/>
            <a:ext cx="7975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135640" cy="2595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8135640" cy="20890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Объект 2"/>
              <p:cNvSpPr txBox="1"/>
              <p:nvPr/>
            </p:nvSpPr>
            <p:spPr>
              <a:xfrm>
                <a:off x="2548080" y="5084640"/>
                <a:ext cx="36874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85280" y="333000"/>
            <a:ext cx="7975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Пример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ложить  дробь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 сумму простейших рациональных дробей  и  найти  коэффициенты разложения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Решение.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едставим ее в виде суммы простейших дробей, учитыва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00" name="Рисунок 10" descr=""/>
          <p:cNvPicPr/>
          <p:nvPr/>
        </p:nvPicPr>
        <p:blipFill>
          <a:blip r:embed="rId1"/>
          <a:stretch/>
        </p:blipFill>
        <p:spPr>
          <a:xfrm>
            <a:off x="2197080" y="4869000"/>
            <a:ext cx="4175280" cy="75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Объект 1"/>
          <p:cNvGraphicFramePr/>
          <p:nvPr/>
        </p:nvGraphicFramePr>
        <p:xfrm>
          <a:off x="2343240" y="836640"/>
          <a:ext cx="3225600" cy="13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3240" y="836640"/>
                    <a:ext cx="32256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11" descr=""/>
          <p:cNvPicPr/>
          <p:nvPr/>
        </p:nvPicPr>
        <p:blipFill>
          <a:blip r:embed="rId1"/>
          <a:stretch/>
        </p:blipFill>
        <p:spPr>
          <a:xfrm>
            <a:off x="325440" y="333360"/>
            <a:ext cx="7128000" cy="113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Объект 6"/>
              <p:cNvSpPr txBox="1"/>
              <p:nvPr/>
            </p:nvSpPr>
            <p:spPr>
              <a:xfrm>
                <a:off x="252360" y="1700280"/>
                <a:ext cx="831060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323640" y="3500280"/>
            <a:ext cx="545940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иравняем числители дробей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Объект 9"/>
              <p:cNvSpPr txBox="1"/>
              <p:nvPr/>
            </p:nvSpPr>
            <p:spPr>
              <a:xfrm>
                <a:off x="252360" y="4365720"/>
                <a:ext cx="7726320" cy="15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17080" y="1609200"/>
            <a:ext cx="83581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Определение.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Многочленом от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тепен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ли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целой рациональной функцией о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зывается функция вид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                                действительные числа,     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независимая комплексная переменна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Определение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начения       при которых многочле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вен нулю, называются корнями многочлена.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Rectangle 8" descr=""/>
          <p:cNvPicPr/>
          <p:nvPr/>
        </p:nvPicPr>
        <p:blipFill>
          <a:blip r:embed="rId1"/>
          <a:stretch/>
        </p:blipFill>
        <p:spPr>
          <a:xfrm>
            <a:off x="480960" y="317520"/>
            <a:ext cx="770580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1"/>
          <p:cNvGraphicFramePr/>
          <p:nvPr/>
        </p:nvGraphicFramePr>
        <p:xfrm>
          <a:off x="5932440" y="1643040"/>
          <a:ext cx="365040" cy="42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32440" y="1643040"/>
                    <a:ext cx="365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3"/>
          <p:cNvGraphicFramePr/>
          <p:nvPr/>
        </p:nvGraphicFramePr>
        <p:xfrm>
          <a:off x="360360" y="2143080"/>
          <a:ext cx="365040" cy="420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0360" y="2143080"/>
                    <a:ext cx="365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5"/>
          <p:cNvGraphicFramePr/>
          <p:nvPr/>
        </p:nvGraphicFramePr>
        <p:xfrm>
          <a:off x="7147080" y="2214720"/>
          <a:ext cx="365040" cy="42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47080" y="2214720"/>
                    <a:ext cx="36504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7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2003400" y="3071880"/>
          <a:ext cx="4943520" cy="53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03400" y="3071880"/>
                    <a:ext cx="49435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9"/>
          <p:cNvGraphicFramePr/>
          <p:nvPr/>
        </p:nvGraphicFramePr>
        <p:xfrm>
          <a:off x="1217520" y="3571920"/>
          <a:ext cx="2895840" cy="485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1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7520" y="3571920"/>
                    <a:ext cx="28958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0"/>
          <p:cNvGraphicFramePr/>
          <p:nvPr/>
        </p:nvGraphicFramePr>
        <p:xfrm>
          <a:off x="217440" y="3929040"/>
          <a:ext cx="365040" cy="420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3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7440" y="3929040"/>
                    <a:ext cx="365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2"/>
          <p:cNvGraphicFramePr/>
          <p:nvPr/>
        </p:nvGraphicFramePr>
        <p:xfrm>
          <a:off x="4289400" y="4429080"/>
          <a:ext cx="365040" cy="420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45" name="Object 1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89400" y="4429080"/>
                    <a:ext cx="365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7" name="Object 7"/>
              <p:cNvSpPr txBox="1"/>
              <p:nvPr/>
            </p:nvSpPr>
            <p:spPr>
              <a:xfrm>
                <a:off x="684360" y="333360"/>
                <a:ext cx="3828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8"/>
              <p:cNvSpPr txBox="1"/>
              <p:nvPr/>
            </p:nvSpPr>
            <p:spPr>
              <a:xfrm>
                <a:off x="5005440" y="333360"/>
                <a:ext cx="3195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9"/>
              <p:cNvSpPr txBox="1"/>
              <p:nvPr/>
            </p:nvSpPr>
            <p:spPr>
              <a:xfrm>
                <a:off x="539640" y="1628640"/>
                <a:ext cx="477684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6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10" name="Object 11"/>
          <p:cNvGraphicFramePr/>
          <p:nvPr/>
        </p:nvGraphicFramePr>
        <p:xfrm>
          <a:off x="5869080" y="1916280"/>
          <a:ext cx="147456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9080" y="1916280"/>
                    <a:ext cx="14745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2" name="Объект 2"/>
              <p:cNvSpPr txBox="1"/>
              <p:nvPr/>
            </p:nvSpPr>
            <p:spPr>
              <a:xfrm>
                <a:off x="1863720" y="3068640"/>
                <a:ext cx="5835600" cy="34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=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5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6</m:t>
                                </m:r>
                              </m:den>
                            </m:f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2"/>
          <p:cNvSpPr/>
          <p:nvPr/>
        </p:nvSpPr>
        <p:spPr>
          <a:xfrm>
            <a:off x="108000" y="404640"/>
            <a:ext cx="8569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Пример .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зложить  дробь  на сумму простейших рациональных дробей  и  найти  коэффициенты раз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обь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равильная. Ее знаменатель имеет вид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ем у квадратного трехчлена                         дискриминант меньше нуля,  и он не разлагается на линейные множители с действительными  коэффициент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Объект 4"/>
              <p:cNvSpPr txBox="1"/>
              <p:nvPr/>
            </p:nvSpPr>
            <p:spPr>
              <a:xfrm>
                <a:off x="2413080" y="1484280"/>
                <a:ext cx="3671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Rectangle 1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Объект 6"/>
              <p:cNvSpPr txBox="1"/>
              <p:nvPr/>
            </p:nvSpPr>
            <p:spPr>
              <a:xfrm>
                <a:off x="1368360" y="3500280"/>
                <a:ext cx="5940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Объект 8"/>
              <p:cNvSpPr txBox="1"/>
              <p:nvPr/>
            </p:nvSpPr>
            <p:spPr>
              <a:xfrm>
                <a:off x="5076720" y="4221000"/>
                <a:ext cx="2232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9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Объект 4"/>
              <p:cNvSpPr txBox="1"/>
              <p:nvPr/>
            </p:nvSpPr>
            <p:spPr>
              <a:xfrm>
                <a:off x="36360" y="260280"/>
                <a:ext cx="86472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2" name="Rectangle 1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Объект 6"/>
              <p:cNvSpPr txBox="1"/>
              <p:nvPr/>
            </p:nvSpPr>
            <p:spPr>
              <a:xfrm>
                <a:off x="1332000" y="1457280"/>
                <a:ext cx="26859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/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TextBox 7"/>
          <p:cNvSpPr/>
          <p:nvPr/>
        </p:nvSpPr>
        <p:spPr>
          <a:xfrm>
            <a:off x="328680" y="14842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Объект 9"/>
              <p:cNvSpPr txBox="1"/>
              <p:nvPr/>
            </p:nvSpPr>
            <p:spPr>
              <a:xfrm>
                <a:off x="1604880" y="2852640"/>
                <a:ext cx="651204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7" name="Прямоугольник 10"/>
          <p:cNvSpPr/>
          <p:nvPr/>
        </p:nvSpPr>
        <p:spPr>
          <a:xfrm>
            <a:off x="252360" y="19890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иска коэффициентов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приведем   к общему знаменателю и приравняем числи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Объект 12"/>
              <p:cNvSpPr txBox="1"/>
              <p:nvPr/>
            </p:nvSpPr>
            <p:spPr>
              <a:xfrm>
                <a:off x="1668600" y="5445000"/>
                <a:ext cx="312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Прямоугольник 14"/>
          <p:cNvSpPr/>
          <p:nvPr/>
        </p:nvSpPr>
        <p:spPr>
          <a:xfrm>
            <a:off x="36360" y="4292640"/>
            <a:ext cx="48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 правило: многочлены равны, если равны коэффициенты при одинаковых степенях       .   Это приводит к сис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1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Объект 16"/>
              <p:cNvSpPr txBox="1"/>
              <p:nvPr/>
            </p:nvSpPr>
            <p:spPr>
              <a:xfrm>
                <a:off x="4861080" y="4149720"/>
                <a:ext cx="3516120" cy="24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 </m:t>
                            </m:r>
                            <m:r>
                              <m:t xml:space="preserve">4</m:t>
                            </m:r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Объект 17"/>
              <p:cNvSpPr txBox="1"/>
              <p:nvPr/>
            </p:nvSpPr>
            <p:spPr>
              <a:xfrm>
                <a:off x="152280" y="609480"/>
                <a:ext cx="1238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485280" y="333000"/>
            <a:ext cx="7975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ставив найденные числа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В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С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D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в разложение, приходим к равенству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Объект 6"/>
              <p:cNvSpPr txBox="1"/>
              <p:nvPr/>
            </p:nvSpPr>
            <p:spPr>
              <a:xfrm>
                <a:off x="868320" y="549360"/>
                <a:ext cx="18320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6" name="Rectangle 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Объект 8"/>
              <p:cNvSpPr txBox="1"/>
              <p:nvPr/>
            </p:nvSpPr>
            <p:spPr>
              <a:xfrm>
                <a:off x="2989440" y="1341360"/>
                <a:ext cx="4651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Rectangle 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Объект 10"/>
              <p:cNvSpPr txBox="1"/>
              <p:nvPr/>
            </p:nvSpPr>
            <p:spPr>
              <a:xfrm>
                <a:off x="3852720" y="620640"/>
                <a:ext cx="9874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" name="Rectangle 11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Объект 12"/>
              <p:cNvSpPr txBox="1"/>
              <p:nvPr/>
            </p:nvSpPr>
            <p:spPr>
              <a:xfrm>
                <a:off x="900000" y="3860640"/>
                <a:ext cx="30704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Rectangle 13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Объект 14"/>
              <p:cNvSpPr txBox="1"/>
              <p:nvPr/>
            </p:nvSpPr>
            <p:spPr>
              <a:xfrm>
                <a:off x="3943440" y="3860640"/>
                <a:ext cx="34383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Прямоугольник 6" descr=""/>
          <p:cNvPicPr/>
          <p:nvPr/>
        </p:nvPicPr>
        <p:blipFill>
          <a:blip r:embed="rId1"/>
          <a:stretch/>
        </p:blipFill>
        <p:spPr>
          <a:xfrm>
            <a:off x="743040" y="1427040"/>
            <a:ext cx="7065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80960" y="133200"/>
            <a:ext cx="7705800" cy="1159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85280" y="1213920"/>
            <a:ext cx="7947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Теорема (основная теорема алгебры)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юбое уравнение вид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меет  ровно        корней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действительных или комплексных, простых и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ратных) и может быть представлен в вид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ложения на линейные множители: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8" name="Object 2"/>
          <p:cNvGraphicFramePr/>
          <p:nvPr/>
        </p:nvGraphicFramePr>
        <p:xfrm>
          <a:off x="3421080" y="1917720"/>
          <a:ext cx="4836960" cy="100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1080" y="1917720"/>
                    <a:ext cx="483696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3"/>
          <p:cNvGraphicFramePr/>
          <p:nvPr/>
        </p:nvGraphicFramePr>
        <p:xfrm>
          <a:off x="2844720" y="3068640"/>
          <a:ext cx="365040" cy="420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4720" y="3068640"/>
                    <a:ext cx="365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5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4"/>
          <p:cNvGraphicFramePr/>
          <p:nvPr/>
        </p:nvGraphicFramePr>
        <p:xfrm>
          <a:off x="4716360" y="2924280"/>
          <a:ext cx="1351080" cy="54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4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2924280"/>
                    <a:ext cx="13510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6"/>
          <p:cNvGraphicFramePr/>
          <p:nvPr/>
        </p:nvGraphicFramePr>
        <p:xfrm>
          <a:off x="601560" y="5043600"/>
          <a:ext cx="7427880" cy="684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6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1560" y="5043600"/>
                    <a:ext cx="74278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85280" y="70920"/>
            <a:ext cx="8161560" cy="657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                               корни уравн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Определение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оворят, что корень             имеет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кратность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если множител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ходит в разложение              раз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реди корней могут быть действительные разные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ействительные кратные и комплексны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С в о й с т в о  1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.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Если многочлен             имеет комплексный корень                  (где               )  кратности        , то этот многочлен имеет также сопряженный корень                 ,  кратность которого равна            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0" y="0"/>
            <a:ext cx="972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3"/>
          <p:cNvGraphicFramePr/>
          <p:nvPr/>
        </p:nvGraphicFramePr>
        <p:xfrm>
          <a:off x="1217520" y="0"/>
          <a:ext cx="259884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0"/>
                    <a:ext cx="25988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5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6789600" y="642960"/>
          <a:ext cx="411480" cy="51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9600" y="642960"/>
                    <a:ext cx="4114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7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3646440" y="1285920"/>
          <a:ext cx="174636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46440" y="1285920"/>
                    <a:ext cx="1746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9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8"/>
          <p:cNvGraphicFramePr/>
          <p:nvPr/>
        </p:nvGraphicFramePr>
        <p:xfrm>
          <a:off x="860400" y="1928880"/>
          <a:ext cx="11239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0400" y="1928880"/>
                    <a:ext cx="11239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10"/>
          <p:cNvGraphicFramePr/>
          <p:nvPr/>
        </p:nvGraphicFramePr>
        <p:xfrm>
          <a:off x="5646600" y="1928880"/>
          <a:ext cx="1175040" cy="53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1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46600" y="1928880"/>
                    <a:ext cx="11750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1"/>
          <p:cNvGraphicFramePr/>
          <p:nvPr/>
        </p:nvGraphicFramePr>
        <p:xfrm>
          <a:off x="6361200" y="3929040"/>
          <a:ext cx="846000" cy="53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61200" y="3929040"/>
                    <a:ext cx="8460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Rectangle 13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12"/>
          <p:cNvGraphicFramePr/>
          <p:nvPr/>
        </p:nvGraphicFramePr>
        <p:xfrm>
          <a:off x="4361040" y="4500720"/>
          <a:ext cx="98712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61040" y="4500720"/>
                    <a:ext cx="987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15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14"/>
          <p:cNvGraphicFramePr/>
          <p:nvPr/>
        </p:nvGraphicFramePr>
        <p:xfrm>
          <a:off x="6805440" y="4581360"/>
          <a:ext cx="978120" cy="47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9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05440" y="4581360"/>
                    <a:ext cx="97812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7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16"/>
          <p:cNvGraphicFramePr/>
          <p:nvPr/>
        </p:nvGraphicFramePr>
        <p:xfrm>
          <a:off x="2503440" y="5143680"/>
          <a:ext cx="457200" cy="502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2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03440" y="5143680"/>
                    <a:ext cx="45720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19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18"/>
          <p:cNvGraphicFramePr/>
          <p:nvPr/>
        </p:nvGraphicFramePr>
        <p:xfrm>
          <a:off x="4361040" y="5715000"/>
          <a:ext cx="987120" cy="457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5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361040" y="5715000"/>
                    <a:ext cx="987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21"/>
          <p:cNvGraphicFramePr/>
          <p:nvPr/>
        </p:nvGraphicFramePr>
        <p:xfrm>
          <a:off x="3503520" y="6310440"/>
          <a:ext cx="457200" cy="503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7" name="Object 2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503520" y="6310440"/>
                    <a:ext cx="457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85640" y="428760"/>
            <a:ext cx="80899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С в о й с т в о   2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Если оставить в перечне корней многочлена          только различные корни и учесть их кратность, то  этот многочлен можно представить в виде произвед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исла                                                  ,   в данн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ложении  являются действительными,  причем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89" name="Object 2"/>
          <p:cNvGraphicFramePr/>
          <p:nvPr/>
        </p:nvGraphicFramePr>
        <p:xfrm>
          <a:off x="3860640" y="1143000"/>
          <a:ext cx="84636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0640" y="1143000"/>
                    <a:ext cx="8463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3"/>
          <p:cNvGraphicFramePr/>
          <p:nvPr/>
        </p:nvGraphicFramePr>
        <p:xfrm>
          <a:off x="289080" y="2876400"/>
          <a:ext cx="8162640" cy="11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080" y="2876400"/>
                    <a:ext cx="8162640" cy="11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ectangle 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5"/>
          <p:cNvGraphicFramePr/>
          <p:nvPr/>
        </p:nvGraphicFramePr>
        <p:xfrm>
          <a:off x="574560" y="4214880"/>
          <a:ext cx="4122720" cy="50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4560" y="4214880"/>
                    <a:ext cx="41227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8"/>
          <p:cNvGraphicFramePr/>
          <p:nvPr/>
        </p:nvGraphicFramePr>
        <p:xfrm>
          <a:off x="1789200" y="4844880"/>
          <a:ext cx="4471920" cy="51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89200" y="4844880"/>
                    <a:ext cx="447192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9"/>
          <p:cNvGraphicFramePr/>
          <p:nvPr/>
        </p:nvGraphicFramePr>
        <p:xfrm>
          <a:off x="1336680" y="5961240"/>
          <a:ext cx="5808600" cy="53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36680" y="5961240"/>
                    <a:ext cx="5808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80960" y="231840"/>
            <a:ext cx="8759880" cy="536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85640" y="981000"/>
            <a:ext cx="8120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Теорема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статок          от деления многочлен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  функцию            равен          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Доказательство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елим многочлен          на   линейную функцию          , получим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            многочлен степени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статок от дел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ставляя в формулу                 , получим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сюда  имеем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Объект 8"/>
              <p:cNvSpPr txBox="1"/>
              <p:nvPr/>
            </p:nvSpPr>
            <p:spPr>
              <a:xfrm>
                <a:off x="6732720" y="1989000"/>
                <a:ext cx="696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Объект 11"/>
              <p:cNvSpPr txBox="1"/>
              <p:nvPr/>
            </p:nvSpPr>
            <p:spPr>
              <a:xfrm>
                <a:off x="3927600" y="1484280"/>
                <a:ext cx="861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Объект 12"/>
              <p:cNvSpPr txBox="1"/>
              <p:nvPr/>
            </p:nvSpPr>
            <p:spPr>
              <a:xfrm>
                <a:off x="6072120" y="1519200"/>
                <a:ext cx="6606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Объект 15"/>
              <p:cNvSpPr txBox="1"/>
              <p:nvPr/>
            </p:nvSpPr>
            <p:spPr>
              <a:xfrm>
                <a:off x="757080" y="1557360"/>
                <a:ext cx="695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Объект 16"/>
              <p:cNvSpPr txBox="1"/>
              <p:nvPr/>
            </p:nvSpPr>
            <p:spPr>
              <a:xfrm>
                <a:off x="3708360" y="2421000"/>
                <a:ext cx="862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Объект 17"/>
              <p:cNvSpPr txBox="1"/>
              <p:nvPr/>
            </p:nvSpPr>
            <p:spPr>
              <a:xfrm>
                <a:off x="1863720" y="2827440"/>
                <a:ext cx="4538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Объект 18"/>
              <p:cNvSpPr txBox="1"/>
              <p:nvPr/>
            </p:nvSpPr>
            <p:spPr>
              <a:xfrm>
                <a:off x="1260360" y="3284640"/>
                <a:ext cx="1065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Объект 19"/>
              <p:cNvSpPr txBox="1"/>
              <p:nvPr/>
            </p:nvSpPr>
            <p:spPr>
              <a:xfrm>
                <a:off x="5653080" y="3357720"/>
                <a:ext cx="13431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Объект 21"/>
              <p:cNvSpPr txBox="1"/>
              <p:nvPr/>
            </p:nvSpPr>
            <p:spPr>
              <a:xfrm>
                <a:off x="3637080" y="1052640"/>
                <a:ext cx="658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Объект 22"/>
              <p:cNvSpPr txBox="1"/>
              <p:nvPr/>
            </p:nvSpPr>
            <p:spPr>
              <a:xfrm>
                <a:off x="4286160" y="4292640"/>
                <a:ext cx="430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Объект 23"/>
              <p:cNvSpPr txBox="1"/>
              <p:nvPr/>
            </p:nvSpPr>
            <p:spPr>
              <a:xfrm>
                <a:off x="4932360" y="4373640"/>
                <a:ext cx="709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Объект 24"/>
              <p:cNvSpPr txBox="1"/>
              <p:nvPr/>
            </p:nvSpPr>
            <p:spPr>
              <a:xfrm>
                <a:off x="2071800" y="4797360"/>
                <a:ext cx="4235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Объект 25"/>
              <p:cNvSpPr txBox="1"/>
              <p:nvPr/>
            </p:nvSpPr>
            <p:spPr>
              <a:xfrm>
                <a:off x="3060720" y="5708520"/>
                <a:ext cx="2308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759880" cy="646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485280" y="1125000"/>
            <a:ext cx="8047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исло    является корнем многочлена       только и только тогда, когда          делится 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ез остат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 algn="just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вободный член многочлена делится на любой целый корень многочлена с целыми коэффициентами равен 1, то все рациональные корни являются и целы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 algn="just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усть    целый корень приведенного многочле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 целыми коэффициентами. Тогда дл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юбого целого    число          делится 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8" name="Picture 7" descr="P(x)"/>
          <p:cNvPicPr/>
          <p:nvPr/>
        </p:nvPicPr>
        <p:blipFill>
          <a:blip r:embed="rId2"/>
          <a:stretch/>
        </p:blipFill>
        <p:spPr>
          <a:xfrm>
            <a:off x="10131480" y="-196920"/>
            <a:ext cx="380880" cy="2001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P(x)=0"/>
          <p:cNvPicPr/>
          <p:nvPr/>
        </p:nvPicPr>
        <p:blipFill>
          <a:blip r:embed="rId3"/>
          <a:stretch/>
        </p:blipFill>
        <p:spPr>
          <a:xfrm>
            <a:off x="14009760" y="-196920"/>
            <a:ext cx="733320" cy="20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0" name="Объект 6"/>
              <p:cNvSpPr txBox="1"/>
              <p:nvPr/>
            </p:nvSpPr>
            <p:spPr>
              <a:xfrm>
                <a:off x="1908000" y="1268280"/>
                <a:ext cx="22068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Объект 8"/>
              <p:cNvSpPr txBox="1"/>
              <p:nvPr/>
            </p:nvSpPr>
            <p:spPr>
              <a:xfrm>
                <a:off x="6732720" y="1197000"/>
                <a:ext cx="695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Объект 9"/>
              <p:cNvSpPr txBox="1"/>
              <p:nvPr/>
            </p:nvSpPr>
            <p:spPr>
              <a:xfrm>
                <a:off x="4429080" y="1557360"/>
                <a:ext cx="695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Объект 10"/>
              <p:cNvSpPr txBox="1"/>
              <p:nvPr/>
            </p:nvSpPr>
            <p:spPr>
              <a:xfrm>
                <a:off x="7164360" y="1557360"/>
                <a:ext cx="86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Объект 11"/>
              <p:cNvSpPr txBox="1"/>
              <p:nvPr/>
            </p:nvSpPr>
            <p:spPr>
              <a:xfrm>
                <a:off x="1692360" y="4302000"/>
                <a:ext cx="482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Объект 12"/>
              <p:cNvSpPr txBox="1"/>
              <p:nvPr/>
            </p:nvSpPr>
            <p:spPr>
              <a:xfrm>
                <a:off x="900000" y="4653000"/>
                <a:ext cx="760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Объект 13"/>
              <p:cNvSpPr txBox="1"/>
              <p:nvPr/>
            </p:nvSpPr>
            <p:spPr>
              <a:xfrm>
                <a:off x="3205080" y="5084640"/>
                <a:ext cx="2541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Объект 14"/>
              <p:cNvSpPr txBox="1"/>
              <p:nvPr/>
            </p:nvSpPr>
            <p:spPr>
              <a:xfrm>
                <a:off x="1405080" y="5589720"/>
                <a:ext cx="861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Объект 15"/>
              <p:cNvSpPr txBox="1"/>
              <p:nvPr/>
            </p:nvSpPr>
            <p:spPr>
              <a:xfrm>
                <a:off x="4460760" y="5132520"/>
                <a:ext cx="760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80960" y="268200"/>
            <a:ext cx="8759880" cy="1006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108000" y="1600200"/>
            <a:ext cx="8424720" cy="1541520"/>
          </a:xfrm>
          <a:prstGeom prst="rect">
            <a:avLst/>
          </a:prstGeom>
          <a:gradFill rotWithShape="0">
            <a:gsLst>
              <a:gs pos="0">
                <a:srgbClr val="f4e7ed"/>
              </a:gs>
              <a:gs pos="100000">
                <a:srgbClr val="f5e0e5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34000"/>
          </a:bodyPr>
          <a:p>
            <a:pPr marL="92520" indent="-92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rebuchet MS"/>
              </a:rPr>
              <a:t>Пример1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ложить квадратный трехчлен  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множител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rebuchet MS"/>
              </a:rPr>
              <a:t>Решение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йдем корни многочлена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ример 2.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азложить многочлен третьей степен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1" name="Рисунок 5" descr="формула"/>
          <p:cNvPicPr/>
          <p:nvPr/>
        </p:nvPicPr>
        <p:blipFill>
          <a:blip r:embed="rId2"/>
          <a:stretch/>
        </p:blipFill>
        <p:spPr>
          <a:xfrm>
            <a:off x="5724360" y="2060640"/>
            <a:ext cx="1764000" cy="468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3"/>
          <a:stretch/>
        </p:blipFill>
        <p:spPr>
          <a:xfrm>
            <a:off x="181080" y="3716280"/>
            <a:ext cx="3046320" cy="504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9" descr="формула"/>
          <p:cNvPicPr/>
          <p:nvPr/>
        </p:nvPicPr>
        <p:blipFill>
          <a:blip r:embed="rId4"/>
          <a:stretch/>
        </p:blipFill>
        <p:spPr>
          <a:xfrm>
            <a:off x="3421080" y="3573360"/>
            <a:ext cx="1800360" cy="133200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10" descr="формула"/>
          <p:cNvPicPr/>
          <p:nvPr/>
        </p:nvPicPr>
        <p:blipFill>
          <a:blip r:embed="rId5"/>
          <a:stretch/>
        </p:blipFill>
        <p:spPr>
          <a:xfrm>
            <a:off x="5381640" y="3789360"/>
            <a:ext cx="2951280" cy="75564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1" descr="формула"/>
          <p:cNvPicPr/>
          <p:nvPr/>
        </p:nvPicPr>
        <p:blipFill>
          <a:blip r:embed="rId6"/>
          <a:stretch/>
        </p:blipFill>
        <p:spPr>
          <a:xfrm>
            <a:off x="3708360" y="6021360"/>
            <a:ext cx="17636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51960" y="260280"/>
            <a:ext cx="79470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ешение.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7" name="Рисунок 2" descr="формула"/>
          <p:cNvPicPr/>
          <p:nvPr/>
        </p:nvPicPr>
        <p:blipFill>
          <a:blip r:embed="rId1"/>
          <a:stretch/>
        </p:blipFill>
        <p:spPr>
          <a:xfrm>
            <a:off x="3205080" y="260280"/>
            <a:ext cx="3635280" cy="64764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3" descr="формула"/>
          <p:cNvPicPr/>
          <p:nvPr/>
        </p:nvPicPr>
        <p:blipFill>
          <a:blip r:embed="rId2"/>
          <a:stretch/>
        </p:blipFill>
        <p:spPr>
          <a:xfrm>
            <a:off x="252360" y="944640"/>
            <a:ext cx="3888000" cy="277164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4" descr="формула"/>
          <p:cNvPicPr/>
          <p:nvPr/>
        </p:nvPicPr>
        <p:blipFill>
          <a:blip r:embed="rId3"/>
          <a:stretch/>
        </p:blipFill>
        <p:spPr>
          <a:xfrm>
            <a:off x="4213080" y="3753000"/>
            <a:ext cx="44276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1:53Z</dcterms:created>
  <dc:creator>user</dc:creator>
  <dc:description/>
  <dc:language>en-US</dc:language>
  <cp:lastModifiedBy>MANYA</cp:lastModifiedBy>
  <dcterms:modified xsi:type="dcterms:W3CDTF">2014-09-25T18:55:09Z</dcterms:modified>
  <cp:revision>282</cp:revision>
  <dc:subject/>
  <dc:title>НЕПРЕРЫВНАЯ СЛУЧАЙНАЯ ВЕЛИЧИНА.</dc:title>
</cp:coreProperties>
</file>